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CFB42C-A44D-4231-9654-E6C04AD896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0B4A2F2F-7984-41F9-874C-7B742260FE9C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90E4865-8D2C-4676-9B25-04AFC49B0FF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591F7201-BCE1-4DA6-AF1F-06719D62BDE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518A5FE5-561C-4E96-9E35-473B3A2C5D0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660680"/>
            <a:ext cx="78123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2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9: Quality II - Analyzing and Evolving the Personal Process</a:t>
            </a:r>
            <a:r>
              <a:rPr b="0" lang="en-US" sz="54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ptimum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348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appears that the projects which find and fix defects early require less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ptimum project is one that finds and fixes every defect as early a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we want to be able to manage an optimum project, we need to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are in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defects were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defects were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we don’t know how many defects are in a product until the end, we need a way to predict them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dicting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01280" y="1884240"/>
            <a:ext cx="7924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OC and Hours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ffor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pec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3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2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3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484280"/>
                <a:tab algn="ctr" pos="2382840"/>
                <a:tab algn="ctr" pos="3467160"/>
                <a:tab algn="ctr" pos="4564080"/>
                <a:tab algn="ctr" pos="5264280"/>
                <a:tab algn="ctr" pos="5591160"/>
                <a:tab algn="ctr" pos="6419880"/>
                <a:tab algn="l" pos="706104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0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6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4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Text Box 1036"/>
          <p:cNvSpPr/>
          <p:nvPr/>
        </p:nvSpPr>
        <p:spPr>
          <a:xfrm>
            <a:off x="596880" y="3881520"/>
            <a:ext cx="81201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One way to estimate defects is to look at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efect density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The average defect density above is 0.132 defects/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(35+25+31+41)/(200+200+200+400) = .13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A future project estimated at 500 LOC is likely to h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500 * .132, or 66 total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6" name="Group 1040"/>
          <p:cNvGrpSpPr/>
          <p:nvPr/>
        </p:nvGrpSpPr>
        <p:grpSpPr>
          <a:xfrm>
            <a:off x="687240" y="1827360"/>
            <a:ext cx="8084880" cy="1969200"/>
            <a:chOff x="687240" y="1827360"/>
            <a:chExt cx="8084880" cy="1969200"/>
          </a:xfrm>
        </p:grpSpPr>
        <p:sp>
          <p:nvSpPr>
            <p:cNvPr id="147" name="Rectangle 1041"/>
            <p:cNvSpPr/>
            <p:nvPr/>
          </p:nvSpPr>
          <p:spPr>
            <a:xfrm>
              <a:off x="687240" y="1827360"/>
              <a:ext cx="8070840" cy="194976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8" name="Line 1042"/>
            <p:cNvSpPr/>
            <p:nvPr/>
          </p:nvSpPr>
          <p:spPr>
            <a:xfrm>
              <a:off x="687240" y="218304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Line 1043"/>
            <p:cNvSpPr/>
            <p:nvPr/>
          </p:nvSpPr>
          <p:spPr>
            <a:xfrm>
              <a:off x="701280" y="251064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Line 1044"/>
            <p:cNvSpPr/>
            <p:nvPr/>
          </p:nvSpPr>
          <p:spPr>
            <a:xfrm>
              <a:off x="3615480" y="1827360"/>
              <a:ext cx="0" cy="1935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Line 1045"/>
            <p:cNvSpPr/>
            <p:nvPr/>
          </p:nvSpPr>
          <p:spPr>
            <a:xfrm>
              <a:off x="2673000" y="2185200"/>
              <a:ext cx="0" cy="15955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2" name="Line 1046"/>
            <p:cNvSpPr/>
            <p:nvPr/>
          </p:nvSpPr>
          <p:spPr>
            <a:xfrm>
              <a:off x="4800960" y="2199240"/>
              <a:ext cx="0" cy="15955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3" name="Line 1047"/>
            <p:cNvSpPr/>
            <p:nvPr/>
          </p:nvSpPr>
          <p:spPr>
            <a:xfrm>
              <a:off x="597276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4" name="Line 1048"/>
            <p:cNvSpPr/>
            <p:nvPr/>
          </p:nvSpPr>
          <p:spPr>
            <a:xfrm>
              <a:off x="765828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5" name="Line 1049"/>
            <p:cNvSpPr/>
            <p:nvPr/>
          </p:nvSpPr>
          <p:spPr>
            <a:xfrm>
              <a:off x="191556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6" name="Line 1050"/>
            <p:cNvSpPr/>
            <p:nvPr/>
          </p:nvSpPr>
          <p:spPr>
            <a:xfrm>
              <a:off x="6829560" y="2200680"/>
              <a:ext cx="0" cy="1595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Dens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atio of defects to size measure is used to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dict defects in future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rmalize data across individual produ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balancing your checkbook each month.  You could measure size in terms of the number of transa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Defect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Transaction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Defects/transac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nth 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4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nth 2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5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nth 2 had fewer defects, but month 1 had a lower defect ratio with respect to siz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3560"/>
                <a:tab algn="l" pos="1943280"/>
                <a:tab algn="l" pos="2971800"/>
                <a:tab algn="l" pos="3378240"/>
                <a:tab algn="l" pos="3492360"/>
                <a:tab algn="l" pos="4863960"/>
                <a:tab algn="l" pos="560088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this data, during which month was the process more effectiv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1004760" y="3611520"/>
            <a:ext cx="7131240" cy="95400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for Defect Dens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92160" y="1736640"/>
            <a:ext cx="808668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historical data on defect density, you c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defects anticipated on a project,  based on defect dens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tribute the number of defects to be injected and removed across the phases of your process, based on relative distributions of defects on previous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Month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Defects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Transactions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Defects/trans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th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th 2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5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th 3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?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o you predict for month 3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668600"/>
                <a:tab algn="l" pos="2054160"/>
                <a:tab algn="l" pos="3081240"/>
                <a:tab algn="l" pos="3598920"/>
                <a:tab algn="l" pos="5268960"/>
                <a:tab algn="l" pos="628488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79560" y="3882960"/>
            <a:ext cx="7969320" cy="12686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Injection R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ra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number of defects injected per unit time              (e.g., defects per hou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used to predict defects injected in each process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average defect injection rate is historically available, you can use it to predict the number of defects that will be injected in each of your 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how many hours you will spen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historical injection r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dict how many defects will be injecte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moving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predict the number of defects that will be removed by estimating the time in defect removal phases and multiplying the estimated time by your historical defect removal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, the number of defects removed is base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are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ectiveness of defect removal activ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s remove about 70%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removes around 4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use the term yield to represent the percentage of defects remov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ining Yiel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a generic process.  Joe developed a product where the defects injected and removed per phase are shown below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many total defects were there in the produc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many defects escaped tes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percentage of defects present were found by the review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 is a measure that helps to characterize process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019160" y="3722760"/>
            <a:ext cx="7839000" cy="15825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932360" y="3735360"/>
            <a:ext cx="0" cy="15829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7548480" y="3722760"/>
            <a:ext cx="0" cy="1582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240600" y="3722760"/>
            <a:ext cx="0" cy="1582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7591320" y="3728880"/>
            <a:ext cx="1200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28488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497520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234648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2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031760" y="4110120"/>
            <a:ext cx="78138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3624120" y="3722760"/>
            <a:ext cx="0" cy="1595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3679920" y="3728880"/>
            <a:ext cx="1198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 fontScale="23000"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316240" y="3722760"/>
            <a:ext cx="0" cy="1595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988920" y="4886280"/>
            <a:ext cx="1446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mo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988920" y="4307040"/>
            <a:ext cx="13096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je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1074600" y="3728880"/>
            <a:ext cx="1200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58680" bIns="5868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2316240" y="4110120"/>
            <a:ext cx="1307880" cy="11952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V="1">
            <a:off x="3624120" y="4096800"/>
            <a:ext cx="1308240" cy="1195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 flipV="1">
            <a:off x="4932360" y="4096800"/>
            <a:ext cx="1308240" cy="11955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6229440" y="4110120"/>
            <a:ext cx="1306440" cy="11952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 flipV="1">
            <a:off x="7523280" y="4120920"/>
            <a:ext cx="1309680" cy="11970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in the Checkbook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2160" y="4228920"/>
            <a:ext cx="7896240" cy="23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 phase yield = 100 * (defects found / found + not found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Phase 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Calculation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9536b"/>
                </a:solidFill>
                <a:uFillTx/>
                <a:latin typeface="Arial"/>
              </a:rPr>
              <a:t>Valu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ter / accumulat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5/(5+11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31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ear transact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0/(0+12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0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date registe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6/(6+13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31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date bank statem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0/(0+16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 0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5960"/>
                <a:tab algn="l" pos="635796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are balanc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 * 19/(19+0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017720" y="1681200"/>
            <a:ext cx="6518160" cy="2265120"/>
            <a:chOff x="1017720" y="1681200"/>
            <a:chExt cx="6518160" cy="2265120"/>
          </a:xfrm>
        </p:grpSpPr>
        <p:sp>
          <p:nvSpPr>
            <p:cNvPr id="192" name="Rectangle 5"/>
            <p:cNvSpPr/>
            <p:nvPr/>
          </p:nvSpPr>
          <p:spPr>
            <a:xfrm>
              <a:off x="1078200" y="1681200"/>
              <a:ext cx="6412680" cy="2256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93" name="Picture 6" descr=""/>
            <p:cNvPicPr/>
            <p:nvPr/>
          </p:nvPicPr>
          <p:blipFill>
            <a:blip r:embed="rId1"/>
            <a:stretch/>
          </p:blipFill>
          <p:spPr>
            <a:xfrm>
              <a:off x="1017720" y="1702440"/>
              <a:ext cx="6518160" cy="224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Contro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7720" y="1709640"/>
            <a:ext cx="7705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trol your process, you need measures that are available while you are using the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yield is very helpful, it is not available until after process completion.  Therefore, you also need measure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late with yie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vailable at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st control parameter found in software is review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2720" y="919080"/>
            <a:ext cx="76503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 Rate and Yield in the PSP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17720" y="1709640"/>
            <a:ext cx="7386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data hav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able vari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shows that structur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can be effective if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a defin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checkl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buClr>
                <a:srgbClr val="39536b"/>
              </a:buClr>
              <a:buFont typeface="Arial"/>
              <a:buChar char="•"/>
              <a:tabLst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ailored to eac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’s def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exper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, a suggested control target is to review no more than about 200 LOC per hou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10560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532400" y="1587600"/>
            <a:ext cx="42894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roving the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rigorous reviews in place, we can focus on measuring and improving our process, using both explicit and derived measur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licit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si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in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umber of defects injected and remo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rived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r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dens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injection r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r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ok at Process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your optimum project characterist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all productivity rates per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ies in the later phases of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how you can reduce the defect density in the later phases of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injection rate per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your review r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ere your process and phase yield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and why do removal rates and/or yields fluctu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you ensure the maximum removal rate and/or yiel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e Process Adjust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have done a better job in specifying or designing the job, thus lower defect injection r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tandards for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opt best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have done a better job in your reviews, thus higher yiel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cceptable review r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 checklists consisten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of these improvements may result in fewer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effects of your improv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your process to obtain these results every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historical data from your reviews helps to predict performance on futur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historical data helps you to underst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ectiveness of your process 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ing and fix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iciently producing your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 and analysis, process adjustments can be made in a controlled fashion so that the process is optimiz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:  Process Defini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exercise, you will have a process script for something that you do a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your process script on the template provided in the wor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in mind some of the process parameters we have discussed in this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ry and exit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s or steps that break the work into smaller tasks which can be easily tracked and manag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ntry and Exit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fy the entry criteria for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nputs are requir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forms ar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ools ar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conditions must be satisfi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fy the exit criteria for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outputs are produc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ata are collected?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conditions must be satisfi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Phases and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step of your process should be a planning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job size, effort, and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 of your process should be a development or work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vide the work into at least three steps, preferably mo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some validation steps (reviews, inspections, etc.) to look for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ember to include tasks to collect data on time, size, and defects during each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st step of your process should be a postmortem phase that summarizes and analyzes the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Comple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have completed your process script, have an instructor review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380480" y="5254560"/>
            <a:ext cx="1851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836880" y="4894200"/>
            <a:ext cx="73044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encounter any problem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your development phase divided into multiple step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each of the steps in your development phase at a similar level of detai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had trouble defining the steps of your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your time when you us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omment field of your time log to record how you spent your time during the developmen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efine the steps of your development phase based on the comments in your 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is new process and refine as needed.  Repeat the cycle until you have a good process descri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 know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e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easures from personal reviews to improve your personal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customized script for a process you use at work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208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28440" y="16585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and removal r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ing the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 Personal process script develop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Measure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you use your process, you should coll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in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s will help you understand your process as you gain experience in using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do I ta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do I make mistak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I predict my performance on future proj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I impro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measures, you may have a gut-feel or anecdotal information, but data helps to explain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oking a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15760" y="1477800"/>
            <a:ext cx="7924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C and Hou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Defects Fou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6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135400"/>
                <a:tab algn="ctr" pos="5648400"/>
                <a:tab algn="ctr" pos="6291360"/>
                <a:tab algn="ctr" pos="744552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6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7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74640" y="1751040"/>
            <a:ext cx="8070840" cy="22064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23880" y="4124160"/>
            <a:ext cx="49258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ich projects were goo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at characterizes a good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ich projects were ba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What characterizes a bad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687240" y="1765440"/>
            <a:ext cx="8083800" cy="2206440"/>
            <a:chOff x="687240" y="1765440"/>
            <a:chExt cx="8083800" cy="2206440"/>
          </a:xfrm>
        </p:grpSpPr>
        <p:sp>
          <p:nvSpPr>
            <p:cNvPr id="116" name="Line 6"/>
            <p:cNvSpPr/>
            <p:nvPr/>
          </p:nvSpPr>
          <p:spPr>
            <a:xfrm>
              <a:off x="700200" y="214956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4241880" y="1765440"/>
              <a:ext cx="0" cy="219240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3100320" y="21639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0480" y="21639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513480" y="21495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7670880" y="21495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1928880" y="21495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687240" y="2476440"/>
              <a:ext cx="80708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bservations About th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ranges from 4 LOC/hour (200/52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10 LOC/hour (200/24)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D was twice as large and seemed to take roughly twice as long as Project 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s A and C seemed to take much longer relative to Projects B and 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addition, Projects A and C had more defects in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may be stated that Projects A and C we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ss successful in finding and fix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ss produc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oking at Personal Review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88760" y="1566720"/>
            <a:ext cx="792468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im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66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3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ctr" pos="512640"/>
                <a:tab algn="ctr" pos="1668600"/>
                <a:tab algn="ctr" pos="2824200"/>
                <a:tab algn="ctr" pos="3979800"/>
                <a:tab algn="ctr" pos="5462640"/>
                <a:tab algn="ctr" pos="69325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6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7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73200" y="1535040"/>
            <a:ext cx="7613640" cy="220680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82480" y="3914640"/>
            <a:ext cx="298152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Consider the review rate for personal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Does this give you any hin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0" name="Picture 16" descr=""/>
          <p:cNvPicPr/>
          <p:nvPr/>
        </p:nvPicPr>
        <p:blipFill>
          <a:blip r:embed="rId1"/>
          <a:stretch/>
        </p:blipFill>
        <p:spPr>
          <a:xfrm>
            <a:off x="3689280" y="3706920"/>
            <a:ext cx="4695840" cy="28670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0"/>
          <p:cNvGrpSpPr/>
          <p:nvPr/>
        </p:nvGrpSpPr>
        <p:grpSpPr>
          <a:xfrm>
            <a:off x="685800" y="1536840"/>
            <a:ext cx="7628040" cy="2206440"/>
            <a:chOff x="685800" y="1536840"/>
            <a:chExt cx="7628040" cy="2206440"/>
          </a:xfrm>
        </p:grpSpPr>
        <p:sp>
          <p:nvSpPr>
            <p:cNvPr id="132" name="Line 5"/>
            <p:cNvSpPr/>
            <p:nvPr/>
          </p:nvSpPr>
          <p:spPr>
            <a:xfrm>
              <a:off x="685800" y="1920960"/>
              <a:ext cx="76280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4227480" y="1536840"/>
              <a:ext cx="0" cy="219240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3086280" y="19353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5356080" y="1935360"/>
              <a:ext cx="0" cy="1807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7142040" y="19209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>
              <a:off x="1914480" y="1920960"/>
              <a:ext cx="0" cy="1808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685800" y="2247840"/>
              <a:ext cx="76280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 R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appears that review rate has some effect on the number of defects fou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, review rate is a good predictor of the effectiveness of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engineers review software at 100 to 200 LOC per hour, their reviews are typically eff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y review much faster (or much slower), then the results aren’t as effective, du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ushing through the re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doing the process righ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3-15T20:59:43Z</cp:lastPrinted>
  <dcterms:modified xsi:type="dcterms:W3CDTF">2018-09-06T00:16:07Z</dcterms:modified>
  <cp:revision>202</cp:revision>
  <dc:subject/>
  <dc:title>No Slide Title</dc:title>
</cp:coreProperties>
</file>